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37C-4A0A-4AD1-8394-EFEE00FB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519-F885-460A-B9ED-AD4EB7CE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AAC-9009-481B-BD4C-CFCE4611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B2A-3A8A-4BC2-86BE-1962DB78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B27-C3B5-44F5-BE21-523DE1B7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9199-CD9F-4956-8981-7140DB27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327-3AD9-4F99-8192-9E2B5CAC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C3A-E9E7-4D21-9A39-8143F75C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CF1-F998-4AD7-8555-E6D306BA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AF3-276B-4FCA-A3CF-AA2510B7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024-4DE7-4E90-9AE9-3AF0818A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BA9-1200-4DD5-8060-72B27EA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BB16-523B-45EE-9601-B4C80F28C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7" descr=""/>
          <p:cNvPicPr/>
          <p:nvPr/>
        </p:nvPicPr>
        <p:blipFill>
          <a:blip r:embed="rId1"/>
          <a:stretch/>
        </p:blipFill>
        <p:spPr>
          <a:xfrm>
            <a:off x="0" y="0"/>
            <a:ext cx="5235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0"/>
            <a:ext cx="38862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حِبُّكَ ربّي يَسوع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لَيْسَ لي سِواك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أتبَعُكَ ربّي دَو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بَعُكَ بِلا رُجُوع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سبِّحُ اسمَكَ القُدّو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لَيْسَ ل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ِو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حِبُّكَ يا روحَ الله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أنت لي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غمُرُني ربّي دوم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غمُرُني بلا حد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مسَحُني بقوَّةٍ فأنت لي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087200" y="4329000"/>
            <a:ext cx="657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حِبُّكَ يا أُبّا الآب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ا منْبَعَ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غمُرُني بِحُبِّكَ تغمُرُني بِمَجْدِ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َجْثو أمامَ عَرْشِ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نْبَعَ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44:51Z</dcterms:created>
  <dc:creator>USER</dc:creator>
  <dc:description/>
  <dc:language>en-US</dc:language>
  <cp:lastModifiedBy>USER</cp:lastModifiedBy>
  <dcterms:modified xsi:type="dcterms:W3CDTF">2002-12-16T14:44:02Z</dcterms:modified>
  <cp:revision>2</cp:revision>
  <dc:subject/>
  <dc:title>PowerPoint Presentation</dc:title>
</cp:coreProperties>
</file>